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9AD-7128-408F-80F2-B4AF4A7E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CE0-1027-4409-BDFF-916EFFC2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F5E-EFD6-47FB-8C39-A7B67518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96D-DBE1-4943-96E0-177309CD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CFA-31C4-4230-9D77-8B737747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5C2-C0E7-441B-8838-BB0F9078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E89-E24D-432E-BDCE-FF2E01CC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5C5-DD3A-4D39-BD49-878CC07A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EE2-2FD7-4D5C-A92F-E70EA5AC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375-C0CA-4C9E-BFD3-29F9DE6F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35A-75FC-4BA1-9786-47A12D2B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CCA-9B2F-4E07-A0C0-9873F69A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9972-AAAA-47AA-9A15-5F4A802B1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76720" y="2971800"/>
            <a:ext cx="1295280" cy="539280"/>
            <a:chOff x="3276720" y="2971800"/>
            <a:chExt cx="1295280" cy="539280"/>
          </a:xfrm>
        </p:grpSpPr>
        <p:sp>
          <p:nvSpPr>
            <p:cNvPr id="42" name=""/>
            <p:cNvSpPr/>
            <p:nvPr/>
          </p:nvSpPr>
          <p:spPr>
            <a:xfrm>
              <a:off x="3353040" y="297792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276720" y="297180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ap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53040" y="3206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562720" y="1295280"/>
            <a:ext cx="1295280" cy="540000"/>
            <a:chOff x="5562720" y="1295280"/>
            <a:chExt cx="1295280" cy="540000"/>
          </a:xfrm>
        </p:grpSpPr>
        <p:sp>
          <p:nvSpPr>
            <p:cNvPr id="46" name=""/>
            <p:cNvSpPr/>
            <p:nvPr/>
          </p:nvSpPr>
          <p:spPr>
            <a:xfrm>
              <a:off x="5639040" y="130176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62720" y="129528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nePl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9040" y="1530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562720" y="1981080"/>
            <a:ext cx="1295280" cy="540000"/>
            <a:chOff x="5562720" y="1981080"/>
            <a:chExt cx="1295280" cy="540000"/>
          </a:xfrm>
        </p:grpSpPr>
        <p:sp>
          <p:nvSpPr>
            <p:cNvPr id="50" name=""/>
            <p:cNvSpPr/>
            <p:nvPr/>
          </p:nvSpPr>
          <p:spPr>
            <a:xfrm>
              <a:off x="5639040" y="198756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62720" y="198108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rPl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39040" y="2216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638680" y="2666880"/>
            <a:ext cx="1295280" cy="540000"/>
            <a:chOff x="5638680" y="2666880"/>
            <a:chExt cx="1295280" cy="540000"/>
          </a:xfrm>
        </p:grpSpPr>
        <p:sp>
          <p:nvSpPr>
            <p:cNvPr id="54" name=""/>
            <p:cNvSpPr/>
            <p:nvPr/>
          </p:nvSpPr>
          <p:spPr>
            <a:xfrm>
              <a:off x="5715000" y="267336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38680" y="266688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rrorPl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15000" y="2901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620120" y="1371600"/>
            <a:ext cx="1295280" cy="539280"/>
            <a:chOff x="7620120" y="1371600"/>
            <a:chExt cx="1295280" cy="539280"/>
          </a:xfrm>
        </p:grpSpPr>
        <p:sp>
          <p:nvSpPr>
            <p:cNvPr id="58" name=""/>
            <p:cNvSpPr/>
            <p:nvPr/>
          </p:nvSpPr>
          <p:spPr>
            <a:xfrm>
              <a:off x="7696440" y="137772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20120" y="137160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oupBarPl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96440" y="1606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7620120" y="609480"/>
            <a:ext cx="1295280" cy="540000"/>
            <a:chOff x="7620120" y="609480"/>
            <a:chExt cx="1295280" cy="540000"/>
          </a:xfrm>
        </p:grpSpPr>
        <p:sp>
          <p:nvSpPr>
            <p:cNvPr id="62" name=""/>
            <p:cNvSpPr/>
            <p:nvPr/>
          </p:nvSpPr>
          <p:spPr>
            <a:xfrm>
              <a:off x="7696440" y="61596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20120" y="60948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LinePl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440" y="844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20120" y="2133720"/>
            <a:ext cx="1295280" cy="539280"/>
            <a:chOff x="7620120" y="2133720"/>
            <a:chExt cx="1295280" cy="539280"/>
          </a:xfrm>
        </p:grpSpPr>
        <p:sp>
          <p:nvSpPr>
            <p:cNvPr id="66" name=""/>
            <p:cNvSpPr/>
            <p:nvPr/>
          </p:nvSpPr>
          <p:spPr>
            <a:xfrm>
              <a:off x="7696440" y="213984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20120" y="21337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BarPl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96440" y="2368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343400" y="6089760"/>
            <a:ext cx="1295280" cy="539280"/>
            <a:chOff x="4343400" y="6089760"/>
            <a:chExt cx="1295280" cy="539280"/>
          </a:xfrm>
        </p:grpSpPr>
        <p:sp>
          <p:nvSpPr>
            <p:cNvPr id="70" name=""/>
            <p:cNvSpPr/>
            <p:nvPr/>
          </p:nvSpPr>
          <p:spPr>
            <a:xfrm>
              <a:off x="4419720" y="609588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608976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nearTi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19720" y="6324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819520" y="6089760"/>
            <a:ext cx="1295280" cy="539280"/>
            <a:chOff x="2819520" y="6089760"/>
            <a:chExt cx="1295280" cy="539280"/>
          </a:xfrm>
        </p:grpSpPr>
        <p:sp>
          <p:nvSpPr>
            <p:cNvPr id="74" name=""/>
            <p:cNvSpPr/>
            <p:nvPr/>
          </p:nvSpPr>
          <p:spPr>
            <a:xfrm>
              <a:off x="2895840" y="609588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19520" y="608976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gTi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840" y="6324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286000" y="4191120"/>
            <a:ext cx="1295280" cy="539280"/>
            <a:chOff x="2286000" y="4191120"/>
            <a:chExt cx="1295280" cy="539280"/>
          </a:xfrm>
        </p:grpSpPr>
        <p:sp>
          <p:nvSpPr>
            <p:cNvPr id="78" name=""/>
            <p:cNvSpPr/>
            <p:nvPr/>
          </p:nvSpPr>
          <p:spPr>
            <a:xfrm>
              <a:off x="2362320" y="419724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86000" y="41911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x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62320" y="44258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19320" y="5181480"/>
            <a:ext cx="1295280" cy="540000"/>
            <a:chOff x="1219320" y="5181480"/>
            <a:chExt cx="1295280" cy="540000"/>
          </a:xfrm>
        </p:grpSpPr>
        <p:sp>
          <p:nvSpPr>
            <p:cNvPr id="82" name=""/>
            <p:cNvSpPr/>
            <p:nvPr/>
          </p:nvSpPr>
          <p:spPr>
            <a:xfrm>
              <a:off x="1295640" y="518796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19320" y="518148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nearSc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95640" y="5416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219320" y="6019920"/>
            <a:ext cx="1295280" cy="539280"/>
            <a:chOff x="1219320" y="6019920"/>
            <a:chExt cx="1295280" cy="539280"/>
          </a:xfrm>
        </p:grpSpPr>
        <p:sp>
          <p:nvSpPr>
            <p:cNvPr id="86" name=""/>
            <p:cNvSpPr/>
            <p:nvPr/>
          </p:nvSpPr>
          <p:spPr>
            <a:xfrm>
              <a:off x="1295640" y="602604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19320" y="60199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gSc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5640" y="6254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886200" y="4032360"/>
            <a:ext cx="1295280" cy="539280"/>
            <a:chOff x="3886200" y="4032360"/>
            <a:chExt cx="1295280" cy="539280"/>
          </a:xfrm>
        </p:grpSpPr>
        <p:sp>
          <p:nvSpPr>
            <p:cNvPr id="90" name=""/>
            <p:cNvSpPr/>
            <p:nvPr/>
          </p:nvSpPr>
          <p:spPr>
            <a:xfrm>
              <a:off x="3962520" y="403848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86200" y="403236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4267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09480" y="3651120"/>
            <a:ext cx="1295280" cy="540000"/>
            <a:chOff x="609480" y="3651120"/>
            <a:chExt cx="1295280" cy="540000"/>
          </a:xfrm>
        </p:grpSpPr>
        <p:sp>
          <p:nvSpPr>
            <p:cNvPr id="94" name=""/>
            <p:cNvSpPr/>
            <p:nvPr/>
          </p:nvSpPr>
          <p:spPr>
            <a:xfrm>
              <a:off x="685800" y="365760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480" y="36511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gStreamCa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" y="3886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09480" y="4343400"/>
            <a:ext cx="1295280" cy="539280"/>
            <a:chOff x="609480" y="4343400"/>
            <a:chExt cx="1295280" cy="539280"/>
          </a:xfrm>
        </p:grpSpPr>
        <p:sp>
          <p:nvSpPr>
            <p:cNvPr id="98" name=""/>
            <p:cNvSpPr/>
            <p:nvPr/>
          </p:nvSpPr>
          <p:spPr>
            <a:xfrm>
              <a:off x="685800" y="434952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9480" y="434340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" y="4578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09480" y="3041640"/>
            <a:ext cx="1295280" cy="539280"/>
            <a:chOff x="609480" y="3041640"/>
            <a:chExt cx="1295280" cy="539280"/>
          </a:xfrm>
        </p:grpSpPr>
        <p:sp>
          <p:nvSpPr>
            <p:cNvPr id="102" name=""/>
            <p:cNvSpPr/>
            <p:nvPr/>
          </p:nvSpPr>
          <p:spPr>
            <a:xfrm>
              <a:off x="685800" y="304776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480" y="304164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" y="3276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886200" y="4870440"/>
            <a:ext cx="1295280" cy="539280"/>
            <a:chOff x="3886200" y="4870440"/>
            <a:chExt cx="1295280" cy="539280"/>
          </a:xfrm>
        </p:grpSpPr>
        <p:grpSp>
          <p:nvGrpSpPr>
            <p:cNvPr id="106" name=""/>
            <p:cNvGrpSpPr/>
            <p:nvPr/>
          </p:nvGrpSpPr>
          <p:grpSpPr>
            <a:xfrm>
              <a:off x="3886200" y="4870440"/>
              <a:ext cx="1295280" cy="539280"/>
              <a:chOff x="3886200" y="4870440"/>
              <a:chExt cx="1295280" cy="539280"/>
            </a:xfrm>
          </p:grpSpPr>
          <p:sp>
            <p:nvSpPr>
              <p:cNvPr id="107" name=""/>
              <p:cNvSpPr/>
              <p:nvPr/>
            </p:nvSpPr>
            <p:spPr>
              <a:xfrm>
                <a:off x="3962520" y="4876560"/>
                <a:ext cx="114300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886200" y="4870440"/>
                <a:ext cx="1295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ic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62520" y="51051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>
              <a:off x="4952880" y="5251320"/>
              <a:ext cx="151920" cy="15228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05320" y="1905120"/>
            <a:ext cx="1295280" cy="539280"/>
            <a:chOff x="3505320" y="1905120"/>
            <a:chExt cx="1295280" cy="539280"/>
          </a:xfrm>
        </p:grpSpPr>
        <p:grpSp>
          <p:nvGrpSpPr>
            <p:cNvPr id="112" name=""/>
            <p:cNvGrpSpPr/>
            <p:nvPr/>
          </p:nvGrpSpPr>
          <p:grpSpPr>
            <a:xfrm>
              <a:off x="3505320" y="1905120"/>
              <a:ext cx="1295280" cy="539280"/>
              <a:chOff x="3505320" y="1905120"/>
              <a:chExt cx="1295280" cy="539280"/>
            </a:xfrm>
          </p:grpSpPr>
          <p:sp>
            <p:nvSpPr>
              <p:cNvPr id="113" name=""/>
              <p:cNvSpPr/>
              <p:nvPr/>
            </p:nvSpPr>
            <p:spPr>
              <a:xfrm>
                <a:off x="3581640" y="1911240"/>
                <a:ext cx="114300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05320" y="1905120"/>
                <a:ext cx="1295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lo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81640" y="21398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4571280" y="2286000"/>
              <a:ext cx="152280" cy="15228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V="1">
            <a:off x="3962520" y="24382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828440" y="3124080"/>
            <a:ext cx="152388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724280" y="17524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724280" y="213336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724280" y="22856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81680" y="9907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572000" y="54097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429000" y="54097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971800" y="35812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676520" y="358092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866960" y="3352680"/>
            <a:ext cx="1485720" cy="387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3543480"/>
            <a:ext cx="304560" cy="495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505320" y="4495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04760" y="48006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543800" y="4343400"/>
            <a:ext cx="1295280" cy="1676520"/>
            <a:chOff x="7543800" y="4343400"/>
            <a:chExt cx="1295280" cy="1676520"/>
          </a:xfrm>
        </p:grpSpPr>
        <p:sp>
          <p:nvSpPr>
            <p:cNvPr id="133" name=""/>
            <p:cNvSpPr/>
            <p:nvPr/>
          </p:nvSpPr>
          <p:spPr>
            <a:xfrm flipH="1">
              <a:off x="7848360" y="4572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26120" y="4648320"/>
              <a:ext cx="47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848360" y="501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25400" y="510552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e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05200" y="5410080"/>
              <a:ext cx="152280" cy="15264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73120" y="5638680"/>
              <a:ext cx="97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stract cla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3800" y="4343400"/>
              <a:ext cx="1295280" cy="1676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H="1">
            <a:off x="1828800" y="4495680"/>
            <a:ext cx="533520" cy="158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pGraph 1.2 Simplified Class Hierarc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419720" y="304920"/>
            <a:ext cx="1295280" cy="539280"/>
            <a:chOff x="4419720" y="304920"/>
            <a:chExt cx="1295280" cy="539280"/>
          </a:xfrm>
        </p:grpSpPr>
        <p:sp>
          <p:nvSpPr>
            <p:cNvPr id="143" name=""/>
            <p:cNvSpPr/>
            <p:nvPr/>
          </p:nvSpPr>
          <p:spPr>
            <a:xfrm>
              <a:off x="4496040" y="31104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19720" y="3049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catterPl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96040" y="539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809880" y="9144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8120" y="533520"/>
            <a:ext cx="1295280" cy="539280"/>
            <a:chOff x="3048120" y="533520"/>
            <a:chExt cx="1295280" cy="539280"/>
          </a:xfrm>
        </p:grpSpPr>
        <p:sp>
          <p:nvSpPr>
            <p:cNvPr id="148" name=""/>
            <p:cNvSpPr/>
            <p:nvPr/>
          </p:nvSpPr>
          <p:spPr>
            <a:xfrm>
              <a:off x="3124440" y="53964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533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iderPl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24440" y="768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57400" y="1447920"/>
            <a:ext cx="1295280" cy="539280"/>
            <a:chOff x="2057400" y="1447920"/>
            <a:chExt cx="1295280" cy="539280"/>
          </a:xfrm>
        </p:grpSpPr>
        <p:sp>
          <p:nvSpPr>
            <p:cNvPr id="152" name=""/>
            <p:cNvSpPr/>
            <p:nvPr/>
          </p:nvSpPr>
          <p:spPr>
            <a:xfrm>
              <a:off x="2133720" y="145404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7400" y="14479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iderGrap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720" y="1682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600200" y="533520"/>
            <a:ext cx="1295280" cy="539280"/>
            <a:chOff x="1600200" y="533520"/>
            <a:chExt cx="1295280" cy="539280"/>
          </a:xfrm>
        </p:grpSpPr>
        <p:sp>
          <p:nvSpPr>
            <p:cNvPr id="156" name=""/>
            <p:cNvSpPr/>
            <p:nvPr/>
          </p:nvSpPr>
          <p:spPr>
            <a:xfrm>
              <a:off x="1676520" y="53964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00200" y="533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iderAx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768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0" y="1295280"/>
            <a:ext cx="1295280" cy="540000"/>
            <a:chOff x="0" y="1295280"/>
            <a:chExt cx="1295280" cy="540000"/>
          </a:xfrm>
        </p:grpSpPr>
        <p:sp>
          <p:nvSpPr>
            <p:cNvPr id="160" name=""/>
            <p:cNvSpPr/>
            <p:nvPr/>
          </p:nvSpPr>
          <p:spPr>
            <a:xfrm>
              <a:off x="76320" y="130176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129528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iderGr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320" y="1530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0" y="533520"/>
            <a:ext cx="1295280" cy="539280"/>
            <a:chOff x="0" y="533520"/>
            <a:chExt cx="1295280" cy="539280"/>
          </a:xfrm>
        </p:grpSpPr>
        <p:sp>
          <p:nvSpPr>
            <p:cNvPr id="164" name=""/>
            <p:cNvSpPr/>
            <p:nvPr/>
          </p:nvSpPr>
          <p:spPr>
            <a:xfrm>
              <a:off x="76320" y="53964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533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ntPro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320" y="768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V="1">
            <a:off x="3352680" y="10666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781680" y="1600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781680" y="23619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791320" y="4565520"/>
            <a:ext cx="1295280" cy="540000"/>
            <a:chOff x="5791320" y="4565520"/>
            <a:chExt cx="1295280" cy="540000"/>
          </a:xfrm>
        </p:grpSpPr>
        <p:sp>
          <p:nvSpPr>
            <p:cNvPr id="171" name=""/>
            <p:cNvSpPr/>
            <p:nvPr/>
          </p:nvSpPr>
          <p:spPr>
            <a:xfrm>
              <a:off x="5867640" y="457200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4565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T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7640" y="4800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105520" y="42670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715000" y="5479920"/>
            <a:ext cx="1295280" cy="540000"/>
            <a:chOff x="5715000" y="5479920"/>
            <a:chExt cx="1295280" cy="540000"/>
          </a:xfrm>
        </p:grpSpPr>
        <p:sp>
          <p:nvSpPr>
            <p:cNvPr id="176" name=""/>
            <p:cNvSpPr/>
            <p:nvPr/>
          </p:nvSpPr>
          <p:spPr>
            <a:xfrm>
              <a:off x="5791320" y="548640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54799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G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57150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105520" y="4336920"/>
            <a:ext cx="990360" cy="114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20574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133360" y="11426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219320" y="1523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219320" y="762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6248520"/>
            <a:ext cx="2286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Arial"/>
              </a:rPr>
              <a:t>Last updated: 27 Mar 2001</a:t>
            </a:r>
            <a:br>
              <a:rPr sz="1000"/>
            </a:br>
            <a:r>
              <a:rPr b="1" lang="sv-SE" sz="1000" spc="-1" strike="noStrike">
                <a:solidFill>
                  <a:srgbClr val="000000"/>
                </a:solidFill>
                <a:latin typeface="Arial"/>
              </a:rPr>
              <a:t>By: Johan Pers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646416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9480" y="2362320"/>
            <a:ext cx="1295280" cy="539280"/>
            <a:chOff x="609480" y="2362320"/>
            <a:chExt cx="1295280" cy="539280"/>
          </a:xfrm>
        </p:grpSpPr>
        <p:sp>
          <p:nvSpPr>
            <p:cNvPr id="187" name=""/>
            <p:cNvSpPr/>
            <p:nvPr/>
          </p:nvSpPr>
          <p:spPr>
            <a:xfrm>
              <a:off x="685800" y="236844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480" y="23623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ieGrap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" y="2597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828800" y="266688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791320" y="603360"/>
            <a:ext cx="1295280" cy="539280"/>
            <a:chOff x="5791320" y="603360"/>
            <a:chExt cx="1295280" cy="539280"/>
          </a:xfrm>
        </p:grpSpPr>
        <p:sp>
          <p:nvSpPr>
            <p:cNvPr id="192" name=""/>
            <p:cNvSpPr/>
            <p:nvPr/>
          </p:nvSpPr>
          <p:spPr>
            <a:xfrm>
              <a:off x="5867640" y="609480"/>
              <a:ext cx="1143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1320" y="60336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iePl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67640" y="838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H="1">
            <a:off x="4343040" y="106668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638680" y="3422520"/>
            <a:ext cx="1295280" cy="540000"/>
            <a:chOff x="5638680" y="3422520"/>
            <a:chExt cx="1295280" cy="540000"/>
          </a:xfrm>
        </p:grpSpPr>
        <p:sp>
          <p:nvSpPr>
            <p:cNvPr id="197" name=""/>
            <p:cNvSpPr/>
            <p:nvPr/>
          </p:nvSpPr>
          <p:spPr>
            <a:xfrm>
              <a:off x="5715000" y="342900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8680" y="3422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iePlot3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H="1" flipV="1">
            <a:off x="4419720" y="243792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2:36:41Z</dcterms:created>
  <dc:creator>Johan Persson</dc:creator>
  <dc:description/>
  <dc:language>en-US</dc:language>
  <cp:lastModifiedBy>Aditus</cp:lastModifiedBy>
  <dcterms:modified xsi:type="dcterms:W3CDTF">2001-03-27T22:46:24Z</dcterms:modified>
  <cp:revision>10</cp:revision>
  <dc:subject/>
  <dc:title>No Slide Title</dc:title>
</cp:coreProperties>
</file>